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4F0-AD87-4471-A0DE-7B970421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08E-7DC0-4D92-A3AF-C97EE38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C29-D316-4F8A-B8EC-11ACD634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1B4-87E6-443B-98EA-B05FBC99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378-AB4D-47C0-95BE-C40F7E9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042-47D0-43EF-9AA8-7E284DB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FF0-7B69-4A94-BE2D-F4FFE6F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368-8858-4DA5-9333-49D1202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411-E498-4E4B-9B59-131A375E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EDA-F86B-470C-B7C0-76F39A5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776-62F4-434E-A656-4E418D2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C33-EB22-4017-BC78-BE00102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8C4-A637-4C1A-A4D4-133851B27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3368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7:11:32Z</dcterms:created>
  <dc:creator>smuser</dc:creator>
  <dc:description/>
  <dc:language>en-US</dc:language>
  <cp:lastModifiedBy>smuser</cp:lastModifiedBy>
  <dcterms:modified xsi:type="dcterms:W3CDTF">2010-01-11T18:32:10Z</dcterms:modified>
  <cp:revision>2</cp:revision>
  <dc:subject/>
  <dc:title>Comparing Presidents</dc:title>
</cp:coreProperties>
</file>